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920" y="22320"/>
            <a:ext cx="75168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>
            <a:off x="-7920" y="-360"/>
            <a:ext cx="8215200" cy="1174680"/>
          </a:xfrm>
          <a:custGeom>
            <a:avLst/>
            <a:gdLst/>
            <a:ahLst/>
            <a:rect l="l" t="t" r="r" b="b"/>
            <a:pathLst>
              <a:path w="3888" h="300">
                <a:moveTo>
                  <a:pt x="288" y="12"/>
                </a:moveTo>
                <a:cubicBezTo>
                  <a:pt x="2088" y="12"/>
                  <a:pt x="3888" y="12"/>
                  <a:pt x="3888" y="12"/>
                </a:cubicBezTo>
                <a:cubicBezTo>
                  <a:pt x="3888" y="12"/>
                  <a:pt x="3884" y="296"/>
                  <a:pt x="3888" y="300"/>
                </a:cubicBezTo>
                <a:cubicBezTo>
                  <a:pt x="3664" y="300"/>
                  <a:pt x="400" y="300"/>
                  <a:pt x="36" y="300"/>
                </a:cubicBezTo>
                <a:cubicBezTo>
                  <a:pt x="0" y="0"/>
                  <a:pt x="276" y="16"/>
                  <a:pt x="288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72880" y="88920"/>
            <a:ext cx="8529840" cy="6769080"/>
          </a:xfrm>
          <a:prstGeom prst="roundRect">
            <a:avLst>
              <a:gd name="adj" fmla="val 2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76440" y="6417720"/>
            <a:ext cx="7567200" cy="439560"/>
            <a:chOff x="1576440" y="6417720"/>
            <a:chExt cx="7567200" cy="439560"/>
          </a:xfrm>
        </p:grpSpPr>
        <p:sp>
          <p:nvSpPr>
            <p:cNvPr id="3" name=""/>
            <p:cNvSpPr/>
            <p:nvPr/>
          </p:nvSpPr>
          <p:spPr>
            <a:xfrm flipH="1" flipV="1" rot="10800000">
              <a:off x="1576440" y="6417360"/>
              <a:ext cx="7567200" cy="439560"/>
            </a:xfrm>
            <a:custGeom>
              <a:avLst/>
              <a:gdLst/>
              <a:ahLst/>
              <a:rect l="l" t="t" r="r" b="b"/>
              <a:pathLst>
                <a:path w="3888" h="300">
                  <a:moveTo>
                    <a:pt x="288" y="12"/>
                  </a:moveTo>
                  <a:cubicBezTo>
                    <a:pt x="2088" y="12"/>
                    <a:pt x="3888" y="12"/>
                    <a:pt x="3888" y="12"/>
                  </a:cubicBezTo>
                  <a:cubicBezTo>
                    <a:pt x="3888" y="12"/>
                    <a:pt x="3884" y="296"/>
                    <a:pt x="3888" y="300"/>
                  </a:cubicBezTo>
                  <a:cubicBezTo>
                    <a:pt x="3664" y="300"/>
                    <a:pt x="400" y="300"/>
                    <a:pt x="36" y="300"/>
                  </a:cubicBezTo>
                  <a:cubicBezTo>
                    <a:pt x="0" y="0"/>
                    <a:pt x="276" y="16"/>
                    <a:pt x="288" y="12"/>
                  </a:cubicBezTo>
                  <a:close/>
                </a:path>
              </a:pathLst>
            </a:cu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67800" y="6472440"/>
              <a:ext cx="3779640" cy="307080"/>
            </a:xfrm>
            <a:prstGeom prst="rect">
              <a:avLst/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 Narrow"/>
                </a:rPr>
                <a:t>ACS Proprietary Restricted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" name="ACS-Logo_rgb-transparent" descr=""/>
          <p:cNvPicPr/>
          <p:nvPr/>
        </p:nvPicPr>
        <p:blipFill>
          <a:blip r:embed="rId2"/>
          <a:stretch/>
        </p:blipFill>
        <p:spPr>
          <a:xfrm>
            <a:off x="11160" y="6211800"/>
            <a:ext cx="828720" cy="623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51"/>
              </a:spcBef>
              <a:buClr>
                <a:srgbClr val="d6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31840">
              <a:spcBef>
                <a:spcPts val="700"/>
              </a:spcBef>
              <a:buClr>
                <a:srgbClr val="d6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22120">
              <a:spcBef>
                <a:spcPts val="649"/>
              </a:spcBef>
              <a:buClr>
                <a:srgbClr val="d60000"/>
              </a:buClr>
              <a:buSzPct val="6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8360" indent="-225360">
              <a:spcBef>
                <a:spcPts val="400"/>
              </a:spcBef>
              <a:buClr>
                <a:srgbClr val="d600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31840">
              <a:spcBef>
                <a:spcPts val="349"/>
              </a:spcBef>
              <a:buClr>
                <a:srgbClr val="d6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4680" indent="-231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4680" indent="-231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6356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S DEFENSE, INC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VIEW (BDR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9760" y="4826160"/>
            <a:ext cx="64008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8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ptember 30, 2003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SPECTS - 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286520"/>
        </p:xfrm>
        <a:graphic>
          <a:graphicData uri="http://schemas.openxmlformats.org/drawingml/2006/table">
            <a:tbl>
              <a:tblPr/>
              <a:tblGrid>
                <a:gridCol w="1913040"/>
                <a:gridCol w="1211040"/>
                <a:gridCol w="1143000"/>
                <a:gridCol w="990720"/>
                <a:gridCol w="685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d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vilianization of NATO Communica-tions in Kos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1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NDING AWARDS - 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32936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1143000"/>
                <a:gridCol w="990720"/>
                <a:gridCol w="685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d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vilianization of NATO Communica-tions in Bos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ed Mgmt Information System – Project Mg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-ACCIS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15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-SC AIS Geographic Information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5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1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ALS IN PROCESS - 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72400" cy="424368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1143000"/>
                <a:gridCol w="990720"/>
                <a:gridCol w="685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d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ineering Support in Kos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30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Security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-N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8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,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ie Harrison for 50 Man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gineering Support in Kosovo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415800" y="1660680"/>
            <a:ext cx="3862440" cy="180972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ustomer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NATO SHAPE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New/Recompete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Current Customer - New Work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Period of Performance (Yrs)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5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ntract Vehicle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FP/LOE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cheduled Award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11/30/2003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otal Value ($K)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$ 7,500 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CS Value ($K)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 $ 7,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apture Manager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L. Martin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RFP Release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8/11/2003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200" y="3782880"/>
            <a:ext cx="3862440" cy="22132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rogram 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Provide Facility Engineering Support to NATO HQ in Pristina, Kosovo consisting of 5 Core Staff (4 Engineers and 1 CAD Operator) and accomplishment of task order work consisting of facility inspections, designs and construction oversight with additional staff. 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30760" y="1644480"/>
            <a:ext cx="4032360" cy="89244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ea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Prime:  ACS Defense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Subs:  Louis Berger Group, EUROUT (HU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53080" y="2801880"/>
            <a:ext cx="4059000" cy="97164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EPISTA (SP), TRACTEBEL (BE), ES-KO (UK), DYNCORP HIBERNIA (UK), HES (TU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45160" y="4092480"/>
            <a:ext cx="4079880" cy="1890720"/>
          </a:xfrm>
          <a:prstGeom prst="roundRect">
            <a:avLst>
              <a:gd name="adj" fmla="val 14426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Why Can We Win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We’ve been working with the client for 3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He identified this opportunity for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Our subcontractor has a local office and will provide local labor at very competitive r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50320" y="6488280"/>
            <a:ext cx="194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posal in Process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PTURE - 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981080"/>
          <a:ext cx="7772400" cy="458496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1143000"/>
                <a:gridCol w="990720"/>
                <a:gridCol w="685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d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COM EHF Mod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 H &amp; LM fill in TB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 Links (E-1 Lines) &amp; 2 National Gateways fpr ea. NATO 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FOR IT Upgrade Turn 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-SC-AIS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 on our SMIS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bined Joint TF H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 IT &amp; Comm Infra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PTURE - 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67208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1143000"/>
                <a:gridCol w="990720"/>
                <a:gridCol w="685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d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able CJTF Information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ghanistan Project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0K/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IS TO/Awaiting Funding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ghanistan VSAT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sites in-country; one at 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ghanistan IT Infrastructure O&amp;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 for Windows 2K Gateways for National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PTURE - 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7772400" cy="535644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1143000"/>
                <a:gridCol w="990720"/>
                <a:gridCol w="685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d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ion Cost Estim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waiting funding approval by NATO Infrastructure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C3 Interoperability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HQ C3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 Due 17 October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AF Radio Station  in Afghan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 due 14 October 200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-FOR Contract Technical  Overs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SEC CRAMM 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tr CY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2,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2,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waiting Funding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ALUATING - NA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24368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1143000"/>
                <a:gridCol w="990720"/>
                <a:gridCol w="685800"/>
                <a:gridCol w="18288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duled A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Y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COM Post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O NC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1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920" y="22320"/>
            <a:ext cx="75168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COM Post 2000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415800" y="1660680"/>
            <a:ext cx="3862440" cy="180972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ustomer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NATO NC3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New/Recompete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Current Customer - New Work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Period of Performance (Yrs)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0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ntract Vehicle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FFP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cheduled Award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4/1/2004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otal Value ($K)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$ 400,000 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CS Value ($K)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 $ 4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apture Manager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J. Hall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RFP Release: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  12/1/2003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200" y="3782880"/>
            <a:ext cx="3862440" cy="22132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rogram Descri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Provide commercial Satellite Communications Systems for NATO to replace existing dedicated NATO satellite links.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30760" y="1644480"/>
            <a:ext cx="4032360" cy="89244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ea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Prime:  ACSDI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Subs:  New Sk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53080" y="2801880"/>
            <a:ext cx="4059000" cy="97164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Page Europa, Telenor, Siemans, Thales, EA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45160" y="4092480"/>
            <a:ext cx="4079880" cy="1890720"/>
          </a:xfrm>
          <a:prstGeom prst="roundRect">
            <a:avLst>
              <a:gd name="adj" fmla="val 14426"/>
            </a:avLst>
          </a:prstGeom>
          <a:solidFill>
            <a:srgbClr val="ffffff"/>
          </a:solidFill>
          <a:ln w="25560">
            <a:solidFill>
              <a:srgbClr val="dddddd"/>
            </a:solidFill>
            <a:miter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Why Can We Win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3300"/>
                </a:solidFill>
                <a:latin typeface="Arial"/>
              </a:rPr>
              <a:t>We currently provide similar services on the Peace Shield Program. We are a known and trusted contractor to this customer. New Skies will provide us the ability to offer a competitive price in any NATO nation.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7120" y="6488280"/>
            <a:ext cx="113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valuating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22:33:27Z</dcterms:created>
  <dc:creator>L Belveal</dc:creator>
  <dc:description/>
  <dc:language>en-US</dc:language>
  <cp:lastModifiedBy>John Hall</cp:lastModifiedBy>
  <cp:lastPrinted>2001-11-01T15:51:35Z</cp:lastPrinted>
  <dcterms:modified xsi:type="dcterms:W3CDTF">2003-10-06T01:39:36Z</dcterms:modified>
  <cp:revision>2253</cp:revision>
  <dc:subject>Basic information - Year 2001</dc:subject>
  <dc:title>ACS Corporate Presentation - Year 20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1055792</vt:r8>
  </property>
  <property fmtid="{D5CDD505-2E9C-101B-9397-08002B2CF9AE}" pid="3" name="_AuthorEmail">
    <vt:lpwstr>donna.marshall@acs-inc.com</vt:lpwstr>
  </property>
  <property fmtid="{D5CDD505-2E9C-101B-9397-08002B2CF9AE}" pid="4" name="_AuthorEmailDisplayName">
    <vt:lpwstr>Marshall, Donna</vt:lpwstr>
  </property>
  <property fmtid="{D5CDD505-2E9C-101B-9397-08002B2CF9AE}" pid="5" name="_EmailSubject">
    <vt:lpwstr>Final BDR Presentation</vt:lpwstr>
  </property>
</Properties>
</file>